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AD49-49C6-406A-9D49-4411DD8905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585D-B55E-4677-ACA3-0581F94C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D35E-3000-4B81-ADF1-6938DB24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061A-DF33-4BAE-8D66-3313BDBA01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F2510-38F0-4BD6-B143-705EC0BC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E7E76-A9F5-4A10-AE21-E08E481F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916B8-46FC-4A20-B8E4-1A0B8400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03E99-2790-4C2B-AA62-11A704DE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0FAB7-AFFF-4020-A045-1AFAF5D0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70BA1-5349-419B-854E-F6886CE7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24227-7359-4501-BE8D-E1EA4D2E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237C-C407-4822-AD6C-000E9B70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59088-A883-4E7D-83AE-93D61F60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BF6AB-EF13-4191-A854-A075401D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039C9-6902-46E7-B88E-ED4C529F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20187-E29E-4F35-8ABD-65B558F3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BB312-766A-41A1-9B17-5CF3F9E4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893E-B830-4D32-843E-9F3DDD4F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A693-E146-4232-BE40-93ED9C40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CC43-3D26-46A5-9F48-6E4B7B05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4BD4-2332-45DB-A520-295348D2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BA43-C31D-4398-9114-498BB36B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EBDE7-6A70-4B33-83E2-1B529F79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87CE-5CB3-4E7F-8BAC-B0DCEF8C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ffordshire University E-Commerce (Group 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6717-B77F-4DE9-B109-693FD749C0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2896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86080" cy="609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521480" y="0"/>
            <a:ext cx="16225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D9AB-6F0C-4518-9720-BBB0810F69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igboxx.com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igboxx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kprocure.com/" TargetMode="External"/><Relationship Id="rId3" Type="http://schemas.openxmlformats.org/officeDocument/2006/relationships/hyperlink" Target="http://www.ios-ios.com/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isign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ffordshire Universit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-Commerce Presen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site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bigboxx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ed by Group 8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ng Man (070124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Ling, Mark (070122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ng Fai Kin, Sam (070124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ng Tang Fung, Wyatt (070124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8955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7647-63F0-4D4F-85CA-8D40B93C30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7924680" cy="55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11D18-2213-4371-ACB3-538FD24DD3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enue Str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-intermediation of supply ch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d transaction and customer search costs and increased profit marg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ble Pricing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 pricing for orders made by Internet, Phone or F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2AC3-52A4-4795-A124-425E4E1C8F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enue Stream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 Offerings for selected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Buy 1 Get 1 F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customers to buy more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362320" y="3124080"/>
            <a:ext cx="187956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3124080"/>
            <a:ext cx="189216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63D7-5467-42DA-9174-A51B3D5A92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enue Stream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WL is a large corporation doing business with numerous custo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ed a huge customer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push technology to provide Hotspot news to custo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1917720" cy="157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3F93-C768-464F-8D9D-E9F54478A8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gistical Str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-intermediation of supply ch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stomers select items and place orders with simple mouse clicks, no third party is invol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mediation of supply ch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 and well organized catalogue of over 6,000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178D-82CE-4072-A5B4-7F378129AA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eng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ers numerous products from lots of supplier (&gt; 6000 products, &gt; 100 suppli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bargaining powers over suppl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ts not depends on one or few of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7BAF-461C-4EB7-B8A9-4EF2A951BF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ength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solution that linked the backend and front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y integrated enterprise solution (financial, logistics, sales, inventory, warehouse management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lines a number of business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ter cost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management and utilize valued information automatically, accurately, and instant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7484-FDE9-4D07-8B85-EEA86BEAF2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ength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time procedure, online tracking and monitoring of order status, pricing information, inventory control and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no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mover in the 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ngs out differentiation among its competitors and customer lock-in eff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ted C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age overall direction not just basic customer relation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99D9-3F93-4C32-BC04-F36CBBA05E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ength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confidence to customer that right people to be trus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y to form virtual organization (alliance) with other providers in a different market segment to serve a wider base of custo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CF64-7EE6-46EB-8975-3719BE71F2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k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b storefronts only automate one side of tr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adequate for B2B e-comme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stomers have to manually update their internal ordering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ract more competitors to enter the market because of high market reven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n competition implies stringent cost control and lower profit marg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DB1C-A7C1-44BE-B7A6-FA4D4F1C79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cation of business model of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bigboxx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model building blo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lue 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nue 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stical 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ical evaluation of strength and weak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itiveness &amp; business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1058-03FD-4C93-9278-0596954D3E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kness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rgaining power against customers and suppliers will be limi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 on investment may not be as good as originally anticip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nsive setup cost (SAP) and operation cost (own delivery team/warehouse) with low profit marg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3787-2FEA-4377-A0F8-0312B20824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kness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er delivery time for computers, printers, furniture (around 10-14 days) as compared with other orders (around 1-2 day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ld not identify user accounts as real business custo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ld not provide enforcement policies that fits for all compa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mitted orders cannot be cance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0D7E-4BB6-4F66-86B3-05D43685AA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etitive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ed e-procurement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ior custome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liquidity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lable knowledge manage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icient supply chain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F677A-0C39-49BB-B7CE-78518CA4E7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etitiveness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stainable competitive advan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stop solution on office suppl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goes on-line in mark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st and accurate delivery (own delivery team) which is not achieved by its competi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A645-3791-4B0A-82FB-9538F249EB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siness Val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market is big (HK$5 billion/yea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procurement market is fragmen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p 5 players control 25% of sh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m for new entrants to the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ies other companies or SME to setup their own procurement poli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ve time and co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B135-91ED-4B2D-81CC-92E38383BD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nchmar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Kprocure (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hkprocure.c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Office Supplies (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ios-ios.c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are market m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Kprocure mainly targeted to S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OS – a place for buyers and sellers m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2EAD-63E7-4E90-A0A0-AF313BA583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nk You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B8CE-321C-4210-9F3F-8D2E4D41BA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boxx.com specialize in office supplies and services to corporations across H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holly owned subsidiary of Hutchison Whampoa Limited (HW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3D58-2CE0-4BF9-BFFE-1A3877A9B9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siness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/Service Provi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ice Furniture &amp; Equipment Suppli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-proc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2B Electronic Comme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ote from bigboxx.co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boXX.com is a first of its kind B2B e-commerce portal specifically dedicated to serving office administrators and finance mana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82896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7799-9152-4AD6-A4E7-4F883492FF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7924680" cy="55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5F8C-BE05-467D-A281-F56056F765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siness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a Portal (under business tools ta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information for auto rental, accommodation, travel service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links to various government department 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0B9B-2C08-4291-8796-C5B3FA438E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7924680" cy="55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74C9-0D04-4467-A1FA-C1EECA1A48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alue Str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amlined procurement work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able order fulfillment and logistic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electronic catalogue which reduce search costs for buyers and sell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reputation which won several aw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Award for Technology Deploy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5 November 200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zed at IT Excellence Awards 2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4 December 200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99C8-C9EB-490F-9947-330ACF775D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alue Stream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ine tutorial provide value to both buyer and suppl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ship with leading vendors in the industry which offer extra confidence to cust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SBC provide secure internet pay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iSign Secure Site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verisign.co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ent company (HWL) ensure financial s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urity and trust create a value pro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 service centre differentiates from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4505-4D5F-4278-AA2C-8C8C880C13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2:35:00Z</dcterms:created>
  <dc:creator>Wyatt Wong</dc:creator>
  <dc:description/>
  <dc:language>en-US</dc:language>
  <cp:lastModifiedBy>Wyatt Wong</cp:lastModifiedBy>
  <dcterms:modified xsi:type="dcterms:W3CDTF">2002-01-13T06:35:42Z</dcterms:modified>
  <cp:revision>93</cp:revision>
  <dc:subject/>
  <dc:title>E-Commerce Presentation (Group 8)</dc:title>
</cp:coreProperties>
</file>